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973-E126-4D3D-BD56-64C6EE0C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D80-3DBA-45AC-89C9-C06D91F6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5FA-BD94-4135-921A-84E15A9E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114C-51AA-45F5-90E0-FD44C60F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2EED6-344A-48EA-A9D3-AE206D11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39C63-EA84-49A5-B9D2-2A7DD5A8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0BF21-0EE2-4168-939E-98F0B513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AAFFB-56FD-4D77-A2F3-28B1636B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B7C28-EC31-429A-A58F-3CBDCC8D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4A439-83AA-4F8E-8768-B47596F4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B2BAA-B1A3-46B2-A2CE-37518C70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ED6E-13FB-45C3-9C61-24B7E5B9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7A371-CEEA-4A0A-8CB7-68515BE1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A55B4-0E67-481D-83B5-DE5AF8F3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0D96F-CAD0-4E9D-ACD3-227F5DA8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E69F9-6931-444C-BB2B-BC7C5472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83E8B-431A-4FF7-BCCF-D6DA0AB3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3238A-4A43-4939-A5AC-E669908D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084A2-5918-470E-8F1B-A1FEEB51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E53C5-CC6D-43BD-9043-50280B82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76C58-C8F1-4AAE-961F-A21B1DBC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6FDD5-A801-4C92-AB3F-BBCAE0A3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186-10D6-45E3-BDA5-2CC81D99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75CA1-7293-42AC-83E7-F5181430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428AB-D052-4BC1-8D47-1BBD0F73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0AB85-7FA4-449D-A968-C023B5DE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20CEF-96E4-41B0-901C-3EE7E45E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20FD8-2ED8-4971-8F39-D63ED1CF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A1A2BE-F7E2-4C8F-9DC8-A38FF9C8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DDC6D-8025-4709-92E7-98F3C5F3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45A5F-9618-467B-9CFF-353B19A3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60D3E-2FD2-4815-943C-22D5A197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A472E-023E-4292-B7A6-DC47BF2F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20FB-8C78-4E13-B09B-5ECF6061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A8D77-1280-48F7-8E7E-5FDB3232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BD36E-DFA5-4CDF-8406-05F1F5D9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3B88E-3541-4613-BA4A-01CDCD64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28E68-CC70-4AD9-9622-18E0483C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0B14C-3DE7-422F-A32F-9A1C8623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DE51D-7377-44EB-AAE2-5FECD1AB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E8F3C-952E-4D90-ADAC-7CD68E09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8069B-67ED-4EA8-AF18-52AD4EDB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C95B4-BA6B-49E7-8BBC-0AF0425C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D57E0-753A-4E7A-9351-79A54170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FEF-E77E-4FD3-94CE-8F5D03BC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D8131-2BA4-472D-898E-F680E418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8796D-0608-4B82-B8BB-DABEA3B3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629B7-BF8C-4CA1-A447-69534494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8CBC9-EAC8-4DA5-97E9-11376FB5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8A1E3-2E94-41C3-A7C7-1EB62103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F84F4-1706-4107-B68E-333AB3AF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F0856-02A3-46A9-BC67-F9358148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E0E48-8C93-4DC7-8779-63E30DAC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5D977-5BA0-42A5-8894-84A9E04C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63958-6B93-4E13-B931-3A6B9B7B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D84-F3CE-445D-948F-1E58F8D2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01009-56B7-476C-8DA1-D0E730C2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69056-044A-45FF-B259-BA66A956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7815C-75A8-497C-9B44-0765A659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6674F-B00E-471F-A822-D71417CE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7A2FC-9811-4276-B0C4-F22CF900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41127-E5A1-4D05-AA07-29AB4914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D1A00-A7F0-431A-A803-A459B0D4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7B448-357D-49AC-B9DB-975AE8C1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C0185-027B-427F-A69B-E123AC47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F5753-9BE8-43C2-B1AE-47FB5CB7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875C-485C-4229-96E1-E6C38536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24881-56D1-4862-B5CA-87F3022E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D80FB-1341-4041-B135-DC1D7A8E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B30DE-62BA-488C-A162-82B45384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01E0D-2C82-4D61-A67E-DC23DD80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A7324-951B-4AB3-993B-0B3F3F2C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15D1E-6398-457D-AF3B-F91E440D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EACBD-50F1-42BA-A8C8-B02FDE3E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D36F1-E219-40FB-8501-783E344A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36248-A3AB-4508-B0CC-4B7587AA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4904B-44BB-4258-8ECB-55FFAB75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7E5-0BBE-4FEB-86D5-9A2462EE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3E8C3-3466-4B3B-B55C-C1F210ED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A05A0-53D7-4BAC-B153-C8D14960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2A5A3-84CC-4D7A-9D99-63D48316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CF19D-C3DB-4F18-8B19-F482F5BC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3ED10-9A52-4CEE-B095-43E3408F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360-B511-4742-B5C8-5F30DBEA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E876-1E08-4FD5-A964-B3E17ADD970D}" type="slidenum">
              <a:rPr b="0" lang="en-GB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6C76-BAC0-4F42-B287-8FA57E24385C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2FC0-FC8E-43A0-A28D-315A29687854}" type="slidenum">
              <a:rPr b="0" lang="en-GB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D8C2-B218-42FE-AA34-E385E69503AA}" type="slidenum">
              <a:rPr b="0" lang="en-GB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DEDC-96EA-470C-9C36-6A888EF5CE70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4F25-5EFE-4140-AE21-10A06E8DBA20}" type="slidenum">
              <a:rPr b="0" lang="en-GB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1D0B-7114-480E-BFAC-A82714BCB25E}" type="slidenum">
              <a:rPr b="0" lang="en-GB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Franklin Gothic Medium"/>
              </a:rPr>
              <a:t>by 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Franklin Gothic Medium"/>
              </a:rPr>
              <a:t>Szabolcs SZILAGYI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Franklin Gothic Medium"/>
              </a:rPr>
              <a:t>European Commission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Franklin Gothic Medium"/>
              </a:rPr>
              <a:t>TAXUD C.3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ffffff"/>
                </a:solidFill>
                <a:latin typeface="Franklin Gothic Medium"/>
              </a:rPr>
              <a:t>HUNGARIAN ALCOHOL CASES</a:t>
            </a:r>
            <a:r>
              <a:rPr b="0" lang="hu-HU" sz="42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Content Placeholder 1" descr=""/>
          <p:cNvPicPr/>
          <p:nvPr/>
        </p:nvPicPr>
        <p:blipFill>
          <a:blip r:embed="rId1"/>
          <a:stretch/>
        </p:blipFill>
        <p:spPr>
          <a:xfrm>
            <a:off x="244440" y="1627200"/>
            <a:ext cx="8545680" cy="449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HUNGARIAN </a:t>
            </a:r>
            <a:r>
              <a:rPr b="0" lang="hu-HU" sz="2000" spc="-1" strike="noStrike">
                <a:solidFill>
                  <a:srgbClr val="ffffff"/>
                </a:solidFill>
                <a:latin typeface="Franklin Gothic Medium"/>
              </a:rPr>
              <a:t>ALCOHOL </a:t>
            </a: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CASES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5280" y="1773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34949"/>
                </a:solidFill>
                <a:latin typeface="Franklin Gothic Medium"/>
              </a:rPr>
              <a:t>Directive 92/83 on alcohol defines categorie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4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beer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120000"/>
              </a:lnSpc>
              <a:spcBef>
                <a:spcPts val="64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wine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4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other fermented beverages (cider, perry)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4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intermediate products (port, sherry)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4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n-GB" sz="2600" spc="-1" strike="noStrike" u="sng">
                <a:solidFill>
                  <a:srgbClr val="534949"/>
                </a:solidFill>
                <a:uFillTx/>
                <a:latin typeface="Franklin Gothic Medium"/>
              </a:rPr>
              <a:t>ethyl alcohol (spirit drinks)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HUNGARIAN </a:t>
            </a:r>
            <a:r>
              <a:rPr b="0" lang="hu-HU" sz="2000" spc="-1" strike="noStrike">
                <a:solidFill>
                  <a:srgbClr val="ffffff"/>
                </a:solidFill>
                <a:latin typeface="Franklin Gothic Medium"/>
              </a:rPr>
              <a:t>ALCOHOL </a:t>
            </a: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CASES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534949"/>
                </a:solidFill>
                <a:uFillTx/>
                <a:latin typeface="Franklin Gothic Medium"/>
              </a:rPr>
              <a:t>Ethyl alcohol</a:t>
            </a:r>
            <a:r>
              <a:rPr b="0" lang="en-GB" sz="2800" spc="-1" strike="noStrike">
                <a:solidFill>
                  <a:srgbClr val="534949"/>
                </a:solidFill>
                <a:latin typeface="Franklin Gothic Medium"/>
              </a:rPr>
              <a:t> under Directive 92/83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52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534949"/>
                </a:solidFill>
                <a:latin typeface="Franklin Gothic Medium"/>
              </a:rPr>
              <a:t>Definition: reference to CN codes and alcoholic strength (in excess of 22%): </a:t>
            </a:r>
            <a:r>
              <a:rPr b="0" lang="hu-HU" sz="2100" spc="-1" strike="noStrike">
                <a:solidFill>
                  <a:srgbClr val="534949"/>
                </a:solidFill>
                <a:latin typeface="Franklin Gothic Medium"/>
              </a:rPr>
              <a:t>vodka, </a:t>
            </a:r>
            <a:r>
              <a:rPr b="0" lang="en-GB" sz="2100" spc="-1" strike="noStrike">
                <a:solidFill>
                  <a:srgbClr val="534949"/>
                </a:solidFill>
                <a:latin typeface="Franklin Gothic Medium"/>
              </a:rPr>
              <a:t>gin, whisky, brand</a:t>
            </a:r>
            <a:r>
              <a:rPr b="0" lang="hu-HU" sz="2100" spc="-1" strike="noStrike">
                <a:solidFill>
                  <a:srgbClr val="534949"/>
                </a:solidFill>
                <a:latin typeface="Franklin Gothic Medium"/>
              </a:rPr>
              <a:t>y</a:t>
            </a:r>
            <a:r>
              <a:rPr b="0" lang="en-GB" sz="2100" spc="-1" strike="noStrike">
                <a:solidFill>
                  <a:srgbClr val="534949"/>
                </a:solidFill>
                <a:latin typeface="Franklin Gothic Medium"/>
              </a:rPr>
              <a:t>, fruit spirits, etc.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52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534949"/>
                </a:solidFill>
                <a:latin typeface="Franklin Gothic Medium"/>
              </a:rPr>
              <a:t>Single rate must be applied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52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534949"/>
                </a:solidFill>
                <a:latin typeface="Franklin Gothic Medium"/>
              </a:rPr>
              <a:t>Minimum standard rate is 550 EUR/hl (Directive 92/84)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52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534949"/>
                </a:solidFill>
                <a:latin typeface="Franklin Gothic Medium"/>
              </a:rPr>
              <a:t>Reduced rate of not more than 50% of the standard national rate</a:t>
            </a:r>
            <a:r>
              <a:rPr b="0" lang="hu-HU" sz="2100" spc="-1" strike="noStrike">
                <a:solidFill>
                  <a:srgbClr val="534949"/>
                </a:solidFill>
                <a:latin typeface="Franklin Gothic Medium"/>
              </a:rPr>
              <a:t>: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Spirits produced by small distilleries  (max 10 hl/year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534949"/>
                </a:solidFill>
                <a:uFillTx/>
                <a:latin typeface="Franklin Gothic Medium"/>
              </a:rPr>
              <a:t>Hungary, Romania, Slovakia: spirits (from fruit of fruit growers, max 50 litres/year, for personal consumption</a:t>
            </a: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52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534949"/>
                </a:solidFill>
                <a:latin typeface="Franklin Gothic Medium"/>
              </a:rPr>
              <a:t>Exemptions: limited (food, medication, scientific purposes)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HUNGARIAN </a:t>
            </a:r>
            <a:r>
              <a:rPr b="0" lang="hu-HU" sz="2000" spc="-1" strike="noStrike">
                <a:solidFill>
                  <a:srgbClr val="ffffff"/>
                </a:solidFill>
                <a:latin typeface="Franklin Gothic Medium"/>
              </a:rPr>
              <a:t>ALCOHOL </a:t>
            </a: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CASES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0520" y="1719360"/>
            <a:ext cx="85122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34949"/>
                </a:solidFill>
                <a:latin typeface="Franklin Gothic Medium"/>
              </a:rPr>
              <a:t>Hungarian alcohol case no 1. (pálinka)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From September 2012, exemption from excise duty on fruit spirits (pálinka) produced by a distillery (contract distillation) and at home (private distillation) for 50 litres of spirits and for personal consumption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Problem: only a 50% reduction is allowed (contract distillation)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Commission started infringement proceedings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ECJ: C‑115/13 </a:t>
            </a:r>
            <a:r>
              <a:rPr b="0" i="1" lang="en-GB" sz="1700" spc="-1" strike="noStrike">
                <a:solidFill>
                  <a:srgbClr val="534949"/>
                </a:solidFill>
                <a:latin typeface="Franklin Gothic Medium"/>
              </a:rPr>
              <a:t>Com</a:t>
            </a:r>
            <a:r>
              <a:rPr b="0" i="1" lang="hu-HU" sz="17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 v </a:t>
            </a:r>
            <a:r>
              <a:rPr b="0" i="1" lang="en-GB" sz="1700" spc="-1" strike="noStrike">
                <a:solidFill>
                  <a:srgbClr val="534949"/>
                </a:solidFill>
                <a:latin typeface="Franklin Gothic Medium"/>
              </a:rPr>
              <a:t>Hungary: </a:t>
            </a: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the exemption on </a:t>
            </a:r>
            <a:r>
              <a:rPr b="0" lang="en-GB" sz="1700" spc="-1" strike="noStrike" u="sng">
                <a:solidFill>
                  <a:srgbClr val="534949"/>
                </a:solidFill>
                <a:uFillTx/>
                <a:latin typeface="Franklin Gothic Medium"/>
              </a:rPr>
              <a:t>both</a:t>
            </a: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 contract and private distillation</a:t>
            </a:r>
            <a:r>
              <a:rPr b="0" lang="hu-HU" sz="17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violate Directives 92/83 and 92/84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Contract distillation: Hungary will comply from 1 January 2015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Private distillation: flat rate tax of 1000</a:t>
            </a:r>
            <a:r>
              <a:rPr b="0" lang="hu-HU" sz="1700" spc="-1" strike="noStrike">
                <a:solidFill>
                  <a:srgbClr val="534949"/>
                </a:solidFill>
                <a:latin typeface="Franklin Gothic Medium"/>
              </a:rPr>
              <a:t> HUF</a:t>
            </a: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 (3.3 EUR)</a:t>
            </a:r>
            <a:r>
              <a:rPr b="0" lang="hu-HU" sz="1700" spc="-1" strike="noStrike">
                <a:solidFill>
                  <a:srgbClr val="534949"/>
                </a:solidFill>
                <a:latin typeface="Franklin Gothic Medium"/>
              </a:rPr>
              <a:t>/</a:t>
            </a: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year on 50 litres of spirits (personal consumption), individual must be fruit grower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Infringement procedure continues to comply with the judgment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HUNGARIAN </a:t>
            </a:r>
            <a:r>
              <a:rPr b="0" lang="hu-HU" sz="2000" spc="-1" strike="noStrike">
                <a:solidFill>
                  <a:srgbClr val="ffffff"/>
                </a:solidFill>
                <a:latin typeface="Franklin Gothic Medium"/>
              </a:rPr>
              <a:t>ALCOHOL </a:t>
            </a: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CASES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0880" y="1719000"/>
            <a:ext cx="85838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34949"/>
                </a:solidFill>
                <a:latin typeface="Franklin Gothic Medium"/>
              </a:rPr>
              <a:t>Hungarian alcohol case no 2. (dual rate on ethyl alcohol)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From 2012</a:t>
            </a:r>
            <a:r>
              <a:rPr b="0" lang="hu-HU" sz="2000" spc="-1" strike="noStrike">
                <a:solidFill>
                  <a:srgbClr val="534949"/>
                </a:solidFill>
                <a:latin typeface="Franklin Gothic Medium"/>
              </a:rPr>
              <a:t>,</a:t>
            </a: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 Hungary introduced a second (higher) excise duty rate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Standard rate: 1100 EUR/hl, second rate: 1540 EUR/hl (+41%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Art. 21 of Dir. 92/83: single rate must apply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Commission started infringement proceeding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Hungary will repeal the dual rate from 1 January 2015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Instead:</a:t>
            </a:r>
            <a:r>
              <a:rPr b="0" lang="hu-HU" sz="20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a progressive tax on alcoholic beverages is introduce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HUNGARIAN </a:t>
            </a:r>
            <a:r>
              <a:rPr b="0" lang="hu-HU" sz="2000" spc="-1" strike="noStrike">
                <a:solidFill>
                  <a:srgbClr val="ffffff"/>
                </a:solidFill>
                <a:latin typeface="Franklin Gothic Medium"/>
              </a:rPr>
              <a:t>ALCOHOL </a:t>
            </a: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CASES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80880" y="1719000"/>
            <a:ext cx="85838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Franklin Gothic Medium"/>
              </a:rPr>
              <a:t>Potential alcohol case no 3. (progressive tax on alcoholic drinks)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marL="43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34949"/>
              </a:solidFill>
              <a:latin typeface="Franklin Gothic Medium"/>
            </a:endParaRPr>
          </a:p>
          <a:p>
            <a:pPr marL="43200">
              <a:lnSpc>
                <a:spcPct val="11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rom 1 January </a:t>
            </a:r>
            <a:r>
              <a:rPr b="0" lang="hu-HU" sz="2000" spc="-1" strike="noStrike">
                <a:solidFill>
                  <a:srgbClr val="534949"/>
                </a:solidFill>
                <a:latin typeface="Franklin Gothic Medium"/>
              </a:rPr>
              <a:t>2015: a 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ealth</a:t>
            </a:r>
            <a:r>
              <a:rPr b="0" lang="hu-HU" sz="2000" spc="-1" strike="noStrike">
                <a:solidFill>
                  <a:srgbClr val="534949"/>
                </a:solidFill>
                <a:latin typeface="Franklin Gothic Medium"/>
              </a:rPr>
              <a:t> t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ax on all alcoholic beverages (from 1.2%) according to alcoholic strength: e.g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74960" indent="-178560">
              <a:lnSpc>
                <a:spcPct val="110000"/>
              </a:lnSpc>
              <a:spcBef>
                <a:spcPts val="451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etween 25% and 35% tax is 1.67 EUR per litre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74960" indent="-178560">
              <a:lnSpc>
                <a:spcPct val="110000"/>
              </a:lnSpc>
              <a:spcBef>
                <a:spcPts val="451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etween 35% and 45% tax is 2,33 EUR per litre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3200">
              <a:lnSpc>
                <a:spcPct val="11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otential problem: fruit spirits (pálinka, grappa …) and herbal bitters (Zwack Unicum, Jägermeister …) are exempte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3200">
              <a:lnSpc>
                <a:spcPct val="11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Art 1(2) of Dir. 2008/118: MSs may levy other indirect taxes on excise goods provided that: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74960" indent="-178560">
              <a:lnSpc>
                <a:spcPct val="110000"/>
              </a:lnSpc>
              <a:spcBef>
                <a:spcPts val="451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It is levied for specific purposes (C-437/97, C-82/12)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74960" indent="-178560">
              <a:lnSpc>
                <a:spcPct val="110000"/>
              </a:lnSpc>
              <a:spcBef>
                <a:spcPts val="451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It resembles to VAT or excise duties as regards the determination of the tax base, calculation of the tax, chargeability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3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320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HUNGARIAN </a:t>
            </a:r>
            <a:r>
              <a:rPr b="0" lang="hu-HU" sz="2000" spc="-1" strike="noStrike">
                <a:solidFill>
                  <a:srgbClr val="ffffff"/>
                </a:solidFill>
                <a:latin typeface="Franklin Gothic Medium"/>
              </a:rPr>
              <a:t>ALCOHOL </a:t>
            </a: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CASES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34949"/>
                </a:solidFill>
                <a:latin typeface="Franklin Gothic Medium"/>
              </a:rPr>
              <a:t>Potential alcohol case no 3. (progressive tax on alcoholic drinks) cont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2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Non-harmonised tax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Article 110 of the Treaty (no discriminatory taxation)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First para: similar goods, second para.: goods in competitio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Are the exempted products are similar to those taxed?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ECJ (e.g. C-106/84) "similarity": manufacturing method, organoleptic properties, alcohol content, meeting the same need of the consumer (beer and wine not similar; fruit wine and sherry not similar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HUNGARIAN </a:t>
            </a:r>
            <a:r>
              <a:rPr b="0" lang="hu-HU" sz="2000" spc="-1" strike="noStrike">
                <a:solidFill>
                  <a:srgbClr val="ffffff"/>
                </a:solidFill>
                <a:latin typeface="Franklin Gothic Medium"/>
              </a:rPr>
              <a:t>ALCOHOL </a:t>
            </a: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CASES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8T08:38:47Z</dcterms:created>
  <dc:creator>SZILAGYI Szabolcs (TAXUD)</dc:creator>
  <dc:description/>
  <dc:language>en-US</dc:language>
  <cp:lastModifiedBy>SZILAGYI Szabolcs (TAXUD)</cp:lastModifiedBy>
  <cp:lastPrinted>2014-12-08T10:47:17Z</cp:lastPrinted>
  <dcterms:modified xsi:type="dcterms:W3CDTF">2014-12-08T10:48:40Z</dcterms:modified>
  <cp:revision>17</cp:revision>
  <dc:subject/>
  <dc:title>HUNGARIAN EXCISE CASES</dc:title>
</cp:coreProperties>
</file>